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468F1-317C-498B-A986-4BF2B3EAE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11F05-92BE-4A92-8093-78633947E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4E441-72F3-45D3-81C1-D8F632BAF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B6E48-C8C4-468C-B9B2-26055EF7F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83D3E-06CC-4CBF-A831-EEB5B0FF4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6DA2F-CB69-43F1-A524-CE658444B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0403C-8A8D-4ACB-A34A-7F32A35C0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83870-5A18-42F3-B677-78579D59F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86368-6D02-4B58-BD08-887CB90CC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C3FCC-FE77-46AF-A4DC-25C118DF5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DB687-8712-4564-BEDC-45CDE4C54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D4A79-7813-4FCE-AA2A-7EC60FC36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F63BD-F716-43E9-8D65-EA83E7AFE9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bibl.u-szeged.hu/bibl/mil/ww1/technika/hajok/habsburg.html" TargetMode="External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bibl.u-szeged.hu/bibl/mil/ww2/who/horthy.html" TargetMode="External"/><Relationship Id="rId2" Type="http://schemas.openxmlformats.org/officeDocument/2006/relationships/hyperlink" Target="http://www.bibl.u-szeged.hu/bibl/mil/ww2/who/horthy.html" TargetMode="External"/><Relationship Id="rId3" Type="http://schemas.openxmlformats.org/officeDocument/2006/relationships/hyperlink" Target="http://www.bibl.u-szeged.hu/bibl/mil/ww2/who/horthy.html" TargetMode="External"/><Relationship Id="rId4" Type="http://schemas.openxmlformats.org/officeDocument/2006/relationships/hyperlink" Target="http://www.bibl.u-szeged.hu/bibl/mil/ww1/technika/hajok/arpad.html" TargetMode="External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bibl.u-szeged.hu/bibl/mil/ww1/technika/hajok/scharnhorst.html" TargetMode="External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bibl.u-szeged.hu/bibl/mil/ww1/who/spee.html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bibl.u-szeged.hu/bibl/mil/ww1/technika/hajok/viribus_unitis.html" TargetMode="External"/><Relationship Id="rId2" Type="http://schemas.openxmlformats.org/officeDocument/2006/relationships/hyperlink" Target="http://www.bibl.u-szeged.hu/bibl/mil/ww1/technika/hajok/viribus_unitis.html" TargetMode="External"/><Relationship Id="rId3" Type="http://schemas.openxmlformats.org/officeDocument/2006/relationships/hyperlink" Target="http://www.bibl.u-szeged.hu/bibl/mil/ww1/technika/hajok/viribus_unitis.html" TargetMode="External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bibl.u-szeged.hu/bibl/mil/ww1/technika/hajok/viribus_unitis.html" TargetMode="External"/><Relationship Id="rId2" Type="http://schemas.openxmlformats.org/officeDocument/2006/relationships/hyperlink" Target="http://www.bibl.u-szeged.hu/bibl/mil/ww1/technika/hajok/viribus_unitis.html" TargetMode="External"/><Relationship Id="rId3" Type="http://schemas.openxmlformats.org/officeDocument/2006/relationships/hyperlink" Target="http://www.bibl.u-szeged.hu/bibl/mil/ww1/technika/hajok/viribus_unitis.html" TargetMode="External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TECHNIKAI ADATOK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Vízrebocsátás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1901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Vízkiszorítás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8360 t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ebesség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19,5 csomó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Hossz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114,2 m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zélesség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19,8 m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zemélyzet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638 fő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Fegyverzet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3 db 24 cm-es L/40 Skoda ágyú ; 12 db 15 cm-es L/40 Krupp ágyú ; 10 db 6,6 cm-es L/45 Skoda ágyú ; 6 db 4,7 cm-es L/44 Skoda ágyú ; 2 db 45 cm-es torpedóvető cső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ÖRTÉN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Habsburg-osztály második egységeként 1899-ben kezdték építeni. Az Adriai-tengerre tervezett csatahajók főtüzérsége nem mondható erősnek, páncélozottságuk és közepes tüzérségük viszont megfelelőnek tekinthető. Az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Árpá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ot 1911-12-ben átépítették, ennek ellenére a háború kitörésekor már nem számított korszerűnek. Legjelentősebb bevetésére az olasz hadüzenetetet követően került sor, 1915. május 23-án részese volt annak a köteléknek, mely Anconát bombázta. 1917. december 19-én a cortelazzói nehéz ütegeket lőtte, ismét egy kötelék tagjaként. 1918 februárjában kivonták a csapatszolgálatból, ezután iskolahajóként szolgált, legénységét tengeralattjárós és légi szolgálatra osztották be. A háború után Nagy-Britanniának ítélték, de ők továbbadták az olaszoknak, akik 1921-ben lebontották.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stvérhajói :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absbur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Babenbe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MS EMDEN (D)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MS GOEBEN (D)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GC YAVUZ SULTAN SELIM (TR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KAI ADAT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Vízrebocsátás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1911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Vízkiszorítás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24500 t (max.)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Sebesség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28 csomó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Hossz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186,5 m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Szélesség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29,5 m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Személyzet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1053 fő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Fegyverzet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10 db 28 cm-es L/50 ágyú ; 12 db 15 cm-es L/45 ágyú ; 12 db 8,8 cm-es ágyú ; 4 db 50 cm-es torpedóvető cső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ÖRTÉNE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Von der Tann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sztály megnövelt és megerősített változataként tervezték. Az első világháború kitörésekor a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reslau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kiscirkálóval együtt a Földközi-tengeren tartózkodott. Már a konfliktus legelején, 1914. augusztus 4-én harci cselekményben vett részt: Bone és Philippeville algériai francia kikötőket lőtte. A két német hajó elfogására erős brit kötelék indult, ám sikerülkt egérutat nyerniük és biztonságban török felségvizekre hajózniuk. A Goeben – megtartva német legénységét –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Yavuz Sultan Selim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néven török zászló alá került. Ettől az időtől kezdve főként a Fekete-tengeren tevékenykedett. Az orosz egységekkel vívott több összecsapásban összesen 18 találatot szenvedett el, illetve két aknarobbanás is érte. 1918. január 20-án elsüllyesztette a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agla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és az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M28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brit monitorokat, majd több aknára is ráfutott, de korábbi szerencséje most sem hagyta el, ismét ki lehetett javítani. Hivatalosan 1918 novemberében került a török flottához. 1926-28-ban felújították, és átkeresztelték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Yavuz Selim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re. 1936-tól már csak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Yavuz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volt a neve. A második világháború során nagyon erős légvédelmi tüzérséget kapott. 1948-tól állomáshajó, a 60-as évek végén kiselejtezték. Az utolsó első világháborús nagy hajót 1973-ban bontották le.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stvérhajója : Moltk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MS GOEBEN (D)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GC YAVUZ SULTAN SELIM (TR)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MS HABSBURG (OMM)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ECHNIKAI ADAT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Vízrebocsátás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1900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Vízkiszorítás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8340 t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ebesség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19,9 csomó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Hossz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114,2 m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zélesség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19,8 m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zemélyzet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638 fő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Fegyverzet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3 db 24 cm-es L/40 Skoda ágyú ; 12 db 15 cm-es L/40 Krupp ágyú ; 10 db 6,6 cm-es L/45 Skoda ágyú ; 6 db 4,7 cm-es L/44 Skoda ágyú ; 2 db 45 cm-es torpedóvető cső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ÖRTÉN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Építését 1899 márciusában kezdték meg, 1902 utolsó napján állt szolgálatba. Röviddel ezután fedélzetére vezényelték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orthy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Mikló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. Fő tüzérségének szokatlan elrendezése volt: az éltoronyba ikeröveget, a fartoronyba viszont csak egy löveget szereltek. 1911-12-ben átépítették. A háború kitörésekor testvérhajóival együtt a 4. csatahajó-divíziót képező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Habsbur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ár elavultnak számított, az ekkor rövid időre kapitányként visszatérő Horthy nem is leplezte csalódottságát. A hajó legjelentősebb háborús bevetésére az olaszok hadüzenetét megtorló akció során, Ancona lövetésekor került sor. 1917 szeptemberében iskolahajónak minősítették vissza, aktív szolgálatot ezt követően már nem látott el. A háború után az angolok kapták meg, de ők továbbadták Olaszországnak. Ott bontották le 1921-ben.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stvérhajói :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Árpá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Babenbe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MS HABSBURG (OMM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HMS INVINCIBLE (UK)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KAI ADAT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Vízrebocsátás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1907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Vízkiszorítás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20421 t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Sebesség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25 csomó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Hossz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172,8 m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Szélesség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23,9 m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Személyzet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784 fő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Fegyverzet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8 db 30,5 cm-es L/45 ágyú ; 16 db 10,2 cm-es L/50 ágyú ; 1 db 10,2 cm-es légvédelmi ágyú ; 1 db 7,6 cm-es légvédelmi ágyú ; 5 db 45,7 cm-es torpedóvető cső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ÖRTÉNE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z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nvincibl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és testvérhajói egy teljesen új kategóriát képviselnek a hajóépítésben. A koncepció alapja az volt, hogy legyen egy erős fegyverzetű, ám kisebb pálcélzatú, következésképpen gyors hadihajó, amely fel tudja venni a küzdelmet az erős páncélzatú cirkálókkal. Az ilyen paraméterekkel rendelkező hajókat nevezzük csatacirkálóknak. A megoldásnak előnyei és hátrányai is vannak, mindkettőre jó példa az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nvincibl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pályafutása. A háború elején testvérhajójával, az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nflexibl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vel részese volt a Falkland-szigetek mellett vívott csatának (1914. december 8.) , ahol a britek nagy tűzereje valósággal elsöpörte a német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Scharnhors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és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Gneisenau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páncélos cirkálókat. Az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nvincibl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kkor még megúszta a 23 bekapott találatot, ám 1916. május 31-én a skagerraki (jütlandi) tengeri ütközetben a gyenge páncélzat (elsősorban a lőszerraktárak elégtelen védelme) nem volt képes megvédeni a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ützow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övedékeitől. Bár csak öt találatot kapott, a hajó felrobbant, s legénységének zömével együtt odaveszett.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stvérhajói : Inflexible, Indomi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HMS INVINCIBLE (UK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ÉON GAMBETTA (F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ECHNIKAI ADAT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Vízrebocsátás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1901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Vízkiszorítás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12.500 t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ebesség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23 csomó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Hossz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147 m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zélesség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21 m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zemélyzet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711 fő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Fegyverzet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4 db 19,4 cm-es L/45 ágyú ; 16 db 16,4 cm-es L/45 ágyú ; 24 db 4,7 cm-es ágyú ; 2 db 45 cm-es torpedóvető cső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ÖRTÉN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francia páncélos cirkálót és testvérhajóit ellenséges kereskedelmi hajók elfogására tervezték. Az első világháborúban mindhárom egység a Földközi-tengeren szolgált. A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Léon Gambett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 2. könnyűdivízió zászlóshajója lett, ezen minőségében különféle támadások részese volt az Adriai-tengeren, majd az Otrantói-szoros védelmét látta el. 1915. április 26-ról 27-re virradó éjjel az osztrák-magyar U 5 jelű tengeralattjáró annak ellenére, hogy el volt sötétítve, meglepte, és két torpedót lőtt bele. A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Léon Gambett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9 perc alatt oldalára fordult, majd elsüllyedt. A támadáskor 821 fő tartózkodott a fedélzetén, ebből 684 ember, köztük valamennyi tiszt, a cirkálóval együtt odaveszett.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stvérhajói : Victor Hugo, Jules Fer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ÉON GAMBETTA (F)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MS SCHARNHORST (D)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KAI ADAT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Vízrebocsátás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1906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Vízkiszorítás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11600 t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Sebesség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23,8 csomó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Hossz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144,6 m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Szélesség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21,6 m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Személyzet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764 fő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Fegyverzet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8 db 21,0 cm-es L/40 ágyú ; 6 db 15,0 cm-es L/40 ágyú ; 18 db 8,8 cm-es L/35 gyorstüzelő ágyú ; 4 db géppuska ; 4 db 45 cm-es torpedóvető cső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ÖRTÉNE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stvérhajójával, a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Gneisenau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val együtt a Németországtól távol eső vizeken teljesítendő szolgálatra épült. Ehhez a szokásosnál nagyobb sebességet kellett elérnie, ezért gyengébb páncélzattal látták el. Ezt kompenzálandó, a páncélos cirkálók megszokott tüzérségéhez képest erősebb fegyverzettel szerelték fel. Az első világháború kitörésekor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Spe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tengernagy zászlóshajójaként a kínai vizeken állomásozott. Amikor Japán és Németország között beállt a hadiállapot, a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Scharnhors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vezette hajóraj átszelte a Csendes-óceánt. 1914. szeptember 22-én ágyúzták Tahitit. November 1-én Chile partjai közelében a Coronel-foknál elsüllyeszettek két brit páncélos cirkálót, illetve megrongáltak egy kiscirkálót. A diadalmas hajóraj a Horn-fok megkerülését követően a Falkland-szigetek felé vette az irányt, és egyenesen belefutott a britek jóval erősebb kötelékébe. December 8-án testvérhajójához hasonlóan az ellenséges tűzben a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Scharnhors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ot is súlyos találatok érték. Mindkét német páncélos cirkáló felrobbant, Spee tengernagy és két fia a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Scharnhors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teljes legénységével együtt odaveszett.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stvérhajója : Gneisena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SMS ÁRPÁD (OMM)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Habsburg csatahaj</a:t>
            </a:r>
            <a:r>
              <a:rPr b="0" lang="hu-HU" sz="3200" spc="-1" strike="noStrike">
                <a:solidFill>
                  <a:srgbClr val="ff0000"/>
                </a:solidFill>
                <a:latin typeface="Arial"/>
              </a:rPr>
              <a:t>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MS SCHARNHORST (D)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MS SZENT ISTVÁN (OMM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TECHNIKAI ADAT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Vízrebocsátás: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914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Vízkiszorítás: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21.595 t (max.)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Sebesség: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20,4 csomó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Hossz: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52 m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Szélesség: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27,9 m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Személyzet: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087 fő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Fegyverzet: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2 db 30,5 cm-es L/45 ágyú ; 12 db 15 cm-es L/50 ágyú ; 18 db 7 cm-es L/50 ágyú ; 2 db 7 cm-es L/18 ágyú ; 2 db 4,7 cm-es L/44 légvédelmi ágyú ; 4 db 53 cm-es torpedóvető cső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TÖRTÉNE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 korszerű csatahajó építését 1912-ben kezdték el, de testvérhajóival ellentétben nem Triesztben, hanem a Fiume melletti Danubius gyárban, így a Szent István a legnagyobb magyar építésű hadihajó. Osztálya többi egységéhez képest más kazánrendszere és turbinái voltak, négy helyett két hajócsavart kapott, s kisebb eltérések voltak a felépítményben is. 1915-ben állt hadrendbe, de a háború során jórészt a polai kikötőben állomásozott, azt gyakorlatilag csak a lőgyakorlatok alatt hagyta el. Első jelentős harci bevetése végzetessé vált: 1918. június 9-én futott ki egy kötelék tagjaként azzal a céllal, hogy feltörjék az Otrantói-szorosban lévő tengerzárat. 10-én hajnalban olasz torpedóvető motorcsónakok támadtak a kötelékre. A Szent István két torpedótalálatot kapott, oldalára dőlt, és 6 óra 12 perckor elsüllyedt. 89 ember veszett oda, de nagy volt az erkölcsi kár is, hiszen először fordult elő, hogy egy csatahajót torpedókkal semmisítettek meg.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Érdekesség, hogy a Szent István pusztulását a kora reggeli időpont ellenére sikerült filmen is rögzíteni. Csatahajók esetében ilyen felvétel ezen kívül csak a második világháborúban elpusztult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HMS Barham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ról készült.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stvérhajói :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Viribus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Uniti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; Tegetthoff ; Prinz Eug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MS SZENT ISTVÁN (OMM)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TECHNIKAI ADAT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Vízrebocsátás: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914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Vízkiszorítás: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21.595 t (max.)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Sebesség: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20,4 csomó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Hossz: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52 m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Szélesség: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27,9 m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Személyzet: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087 fő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Fegyverzet: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2 db 30,5 cm-es L/45 ágyú ; 12 db 15 cm-es L/50 ágyú ; 18 db 7 cm-es L/50 ágyú ; 2 db 7 cm-es L/18 ágyú ; 2 db 4,7 cm-es L/44 légvédelmi ágyú ; 4 db 53 cm-es torpedóvető cső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TÖRTÉNE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 korszerű csatahajó építését 1912-ben kezdték el, de testvérhajóival ellentétben nem Triesztben, hanem a Fiume melletti Danubius gyárban, így a Szent István a legnagyobb magyar építésű hadihajó. Osztálya többi egységéhez képest más kazánrendszere és turbinái voltak, négy helyett két hajócsavart kapott, s kisebb eltérések voltak a felépítményben is. 1915-ben állt hadrendbe, de a háború során jórészt a polai kikötőben állomásozott, azt gyakorlatilag csak a lőgyakorlatok alatt hagyta el. Első jelentős harci bevetése végzetessé vált: 1918. június 9-én futott ki egy kötelék tagjaként azzal a céllal, hogy feltörjék az Otrantói-szorosban lévő tengerzárat. 10-én hajnalban olasz torpedóvető motorcsónakok támadtak a kötelékre. A Szent István két torpedótalálatot kapott, oldalára dőlt, és 6 óra 12 perckor elsüllyedt. 89 ember veszett oda, de nagy volt az erkölcsi kár is, hiszen először fordult elő, hogy egy csatahajót torpedókkal semmisítettek meg.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Érdekesség, hogy a Szent István pusztulását a kora reggeli időpont ellenére sikerült filmen is rögzíteni. Csatahajók esetében ilyen felvétel ezen kívül csak a második világháborúban elpusztult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HMS Barham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ról készült.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stvérhajói :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Viribus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Uniti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; Tegetthoff ; Prinz Eug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MS SZENT ISTVÁN (OMM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MS VIRIBUS UNITIS (OMM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KAI ADAT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Vízrebocsátás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1911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Vízkiszorítás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20.548 t (max.)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Sebesség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20 csomó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Hossz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152 m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Szélesség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27,9 m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Személyzet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1087 fő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Fegyverzet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12 db 30,5 cm-es L/45 ágyú ; 12 db 15 cm-es L/50 ágyú ; 18 db 7 cm-es L/50 ágyú ; 2 db 7 cm-es L/18 ágyú ; 2 db 4,7 cm-es L/44 légvédelmi ágyú ; 4 db 53 cm-es torpedóvető cső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ÖRTÉNE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 Tegetthoff csatahajó-osztály elsőként elkészült egysége volt, 1912-ben állt hadrendbe. Az olasz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ante Alighier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vel gyakorlatilag egyidejűleg, a világon elsőként ennél a hajónál építettek három lövegcsövet egy páncéltoronyba. Nagy tűzerejű, korszerű dreadnought-típusú csatahajó volt. 1915. május 23-24-én részt vett Ancona ágyúzásában. 1918. június 8-án Horthy zászlóshajójaként egy kötelék élén indult az Otrantoi-szoros tengerzárának feltörésére. Miután 10-én hajnalban testvérhajója, a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Szent Istvá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lsüllyedt, az akciót lefújták. 1918. október 31-én Polában Horthy Miklós ellentengernagy, flottaparancsnok a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Viribus Uniti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edélzetén írta alá az osztrák-magyar flotta átadását a Délszláv Nemzeti Tanács képviselőinek. A hajót az osztrák, magyar és cseh legénység elhagyta, csak a délszláv származásúak, valamint a leendő délszláv flotta majdani tisztikara maradt a fedélzeten. Éjszaka olasz tengerésztisztek egy aknát helyeztek el a hajó fenekén, amely felrobbant. A csatahajó oldalra dőlt, s 14 perc múlva elsüllyedt. Kb. 400 ember veszett oda.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stvérhajói : Tegetthoff ; Prinz Eugen ; Szent Istvá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MS VIRIBUS UNITIS (OMM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KAI ADAT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Vízrebocsátás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1911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Vízkiszorítás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20.548 t (max.)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Sebesség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20 csomó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Hossz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152 m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Szélesség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27,9 m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Személyzet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1087 fő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Fegyverzet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12 db 30,5 cm-es L/45 ágyú ; 12 db 15 cm-es L/50 ágyú ; 18 db 7 cm-es L/50 ágyú ; 2 db 7 cm-es L/18 ágyú ; 2 db 4,7 cm-es L/44 légvédelmi ágyú ; 4 db 53 cm-es torpedóvető cső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ÖRTÉNE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 Tegetthoff csatahajó-osztály elsőként elkészült egysége volt, 1912-ben állt hadrendbe. Az olasz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ante Alighier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vel gyakorlatilag egyidejűleg, a világon elsőként ennél a hajónál építettek három lövegcsövet egy páncéltoronyba. Nagy tűzerejű, korszerű dreadnought-típusú csatahajó volt. 1915. május 23-24-én részt vett Ancona ágyúzásában. 1918. június 8-án Horthy zászlóshajójaként egy kötelék élén indult az Otrantoi-szoros tengerzárának feltörésére. Miután 10-én hajnalban testvérhajója, a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Szent Istvá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lsüllyedt, az akciót lefújták. 1918. október 31-én Polában Horthy Miklós ellentengernagy, flottaparancsnok a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Viribus Uniti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edélzetén írta alá az osztrák-magyar flotta átadását a Délszláv Nemzeti Tanács képviselőinek. A hajót az osztrák, magyar és cseh legénység elhagyta, csak a délszláv származásúak, valamint a leendő délszláv flotta majdani tisztikara maradt a fedélzeten. Éjszaka olasz tengerésztisztek egy aknát helyeztek el a hajó fenekén, amely felrobbant. A csatahajó oldalra dőlt, s 14 perc múlva elsüllyedt. Kb. 400 ember veszett oda.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stvérhajói : Tegetthoff ; Prinz Eugen ; Szent Istvá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MS VIRIBUS UNITIS (OMM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MS ZENTA (OMM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TECHNIKAI ADAT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Vízrebocsátás: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897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Vízkiszorítás: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2350 t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Sebesség: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21,9 csomó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Hossz: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96 m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Szélesség: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,7 m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Személyzet: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308 fő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Fegyverzet: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8 db 12 cm-es L/40 ágyú ; 10 db 4,7 cm-es L/44 ágyú ; 2 db 45 cm-es torpedóvető cső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TÖRTÉNE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z 1899-ben szolgálatba állt Zenta az ún. védett cirkálók vagy kiscirkálók jellegzetes képviselője. Feladata a kereskedelmi hajóforgalom ellenőrzése és diplomáciai küldetések teljesítése volt. Első útja a Távol-Keletre vezetett, ahol 1900-1901-ben egy nemzetközi hajóraj keretein belül részt vett a kínai boxerlázadás leverésében. A következő években afrikai és dél-amerikai vizeken hajózott, 1904-től a torpedóflottillához került. A háború kitörésekor már lassú, elavult hajónak számított. A Montenegroval szemben beállt hadiállapotot követően 1914. augusztus 8-án a Zenta adta le a tengeri háború első lövését, amikor részt vett Antivari ágyúzásában. 10-étől kezdve blokádszolgálatot teljesített. Augusztus 16-án az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Ulan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romboló kíséretében látta el feladatát, amikor egy 17 egységből álló egyesült francia-angol hajóraj támadta meg a két egységet. Az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Ulan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k sikerült elmenekülnie, a kivénhedt Zenta viszont erre képtelen lett volna. Parancsnoka, Pachner Pál fregattkapitány visszautasította a megadást, és felvette a küzdelmet a túlerővel. A világháború első tengeri ütközete rövidnek bizonyult, a nagy francia egységek kb. negyed óra alatt megbénították a Zentát, majd tovább lőve azt, el is süllyesztették. Ezután drámai események következtek, mivel a vízben úszókat nem mentette ki senki, aki bírta, öt órás úszást követően érte el a partot és esett montenegrói fogságba. Számuk 139 volt, a 312 főnyi legénységből 173-an odavesztek.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stvérhajói : Aspern, Szigetvá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MS ZENTA (OMM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URORA (RUS)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TECHNIKAI ADAT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Vízrebocsátás: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900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Vízkiszorítás: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6731 t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Sebesség: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9,3 csomó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Hossz: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26,7 m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Szélesség: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6,8 m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Személyzet: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570 fő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Fegyverzet (1917-es állapot):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4 db 15 cm-es L/45 ágyú ; 6 db 7,6 cm-es légvédelmi ágyú ; 3 db 38,1 cm-es torpedóvető cső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TÖRTÉNE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z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Aurora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(vagy helyes átírással :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Avrora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) nagycirkáló a bolsevik forradalom jelképe, ám az 1917-es események előtt és után is mozgalmas pályafutást tudhatott magáénak. Építését 1897-ben kezdték el Szentpétervárott, s 1903 nyarán állt hadrendbe. Az orosz-japán háború idején az orosz kötelék tagjaként a Csendes-óceánra hajózott. 1905 májusában a csuzimai csatában megsérült, de úszóképes maradt. A háború végéig Manila kikötőjébe volt internálva. Miután visszatért eredeti szolgálati helyére, a Balti-tengerre, kiképzőhaóként szolgált, 1912-ig több diplomáciai utat tett különböző kikötőkbe. Az első világháború kitörését követően partvédő szolgálatot teljesített, majd 1916 végén javítás céljából visszatért az akkor éppen Petrográd névre hallgató állomáshelyére. 1917-ben legénysége kivette részét a februári forradalomból is, de közismertté az októberi események tették: ágyúlövése adta meg a jelet a Téli Palota ostromára. Ezután a bolsevikok oldalán részese volt a polgárháború harci cselekményeinek, majd ismét kiképzőhajó lett, és újfent több körutat tett a tengereken. A második világháború során legénysége kivette részét Leningrád védelméből. Az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Aurora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ágyúit leszerelték, s a parton használták őket, a sérült hajó pedig sekély vízbe süllyedve, több sérülést szenvedve vészelte át a harcokat. 1944-ben emelték ki, helyreállítása után ismét kiképzésre használták, majd az októberi forradalom 50. évfordulója tiszteletére múzeummá alakították át. Több javítást követően ma jó állapotban tekinthető meg a Néva vizén.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stvérhajói : Pallada, Dia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0000"/>
                </a:solidFill>
                <a:latin typeface="Arial"/>
              </a:rPr>
              <a:t>Aurora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ERFFLINGER (D)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ECHNIKAI ADAT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Vízrebocsátás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1913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Vízkiszorítás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30.706 t (max.)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ebesség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26,5 csomó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Hossz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210,4 m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zélesség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29 m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zemélyzet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1112 fő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Fegyverzet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8 db 30,5 cm-es L/50 ágyú ; 12 db 15,0 cm-es L/45 ágyú ; 8 db 8,8 cm-es ágyú ; 4 db 8,8 cm-es légvédelmi ágyú ; 4 db 50 cm-es torpedóvető cső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ÖRTÉN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csatacirkálók közül máig a Derfflinger-osztály hajóit (a névadó mellett a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Lützow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és a kissé megnövelt méretû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Hindenbur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 tartják a legjobbaknak, még a második világháború során sem állt hadrendben ilyen tűzerejű típus. A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erfflin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 háború során számtalan hadműveletben vett részt. 1915 januárjában a Dogger Bank-nál lezajlott csatában megsérült. 1916. május 31-én a jütlandi (skagerraki) csatában más német hajókkal együtt elsüllyesztette a brit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Queen Ma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csatacirkálót. Az ütközetben számos nehézlövedék találta el, de a konstrukció nagyszerűségét jelzi, hogy haza tudott jutni, bár majdnem fél éven át tartott kijavítása. A háború végén Scapa Flow-ba internálták. Legénysége 1919. június 21-én elsüllyesztette. 1934-ben emelték ki, majd a következő években lebontották.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stvérhajói : Lützow ; Hindenbu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ERFFLINGER (D)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HMS DREADNOUGHT (UK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KAI ADAT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Vízrebocsátás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1906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Vízkiszorítás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21845 t (max.)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Sebesség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21 csomó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Hossz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106,6 m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Szélesség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25 m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Személyzet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773 fő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Fegyverzet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10 db 30,5 cm-es L/45 ágyú ; 22 db 7,6 cm-es L/50 ágyú ; 2 db 7,6 cm-es légvédelmi ágyú ; 5 db 45,7 cm-es torpedóvető cső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ÖRTÉNE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 rekordidő alatt (egy év és egy nap) elkészült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readnou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radalmasította a cstahajó-építést, olyannyira, hogy határkőnek számított. A hasonló jellemzőjű hajókat Dreadnoguht-típusúnak, a korábban épülteket pre-Dreadnoughtoknak nevezték ezután. A legfontosabb újítás a "csupa nagy ágyú", a rendkívül erős tüzérség, mely koncentráltan került elhelyezésre a tornyokban. A 10 nagy löveg egyszerre tudott tüzelni a célra, a korábbi csatahajókon ezt csak négy ágyúval voltak képesek megcsinálni. Másik fontos jellemzője a gőzturbinák és a négy hajócsavar alkalmazása volt. Az elsősorban a németek elrettentésére megalkotott hajótípus éppenhogy nem visszatartó erőként hatott, hanem hatalmas fegyverkezési versenyt váltott ki. A potenciális (később valós) ellenfelek egyre-másra építették a nehéz csatahajókat. Maga a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readnou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kevés szerepet kapott az első világháborúban: 1915. március 18-án legázolással elsüllyesztette az U-29 német tengeralattjárót. Lebontására 1923-ban került so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HMS DREADNOUGHT (UK)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MS EMDEN (D)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TECHNIKAI ADAT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Vízrebocsátás: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908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Vízkiszorítás: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3664 t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Sebesség: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23,5 csomó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Hossz: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7,9 m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Szélesség: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3,5 m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Személyzet: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361 fő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Fegyverzet: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0 db 10,5 cm-es L/40 ágyú ; 8 db 5,2 cm-es L/55 ágyú ; 4 db 8 mm-es Maxim géppuska ; 2 db 45 cm-es torpedóvető cső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TÖRTÉNE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z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Emden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kiscirkáló volt talán az első világháború leghíresebb hajója. Ha ezzel a kijelentéssel nem is ért egyet mindenki, az tagadhatatlan, hogy a hajó és legénységének sorsa nem mindennapi módon alakult. Építése hosszasan húzódott, végül 1909 nyarán állt hadrendbe. A távol-keleti vizekre szánt hajó 1910-ben friss trópusi festést kapott – ezt követően soha sem tért vissza Németországba. Számtalan diplomáciai küldetés teljesítése után Kínában érte a hadüzenet. Azonnal kifutott a kikötőből, s könyörtelen vadászatba kezdett: augusztus 1-től november 9-ig 15 kereskedelmi és 2 hadihajót pusztított el. Eközben több kikötői létesítményt is ágyúzott, legismertebb ilyen akciója Madras olajtárolóinak lövetése volt. November 9-én a Cocos-szigetek elleni támadást követően rátalált a gyors és erős ausztrál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Sydne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könnyűcirkáló. Klasszikus hajó-hajó elleni küzdelem kezdődött, melynek végén a szétlőtt és égő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Emden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fennakadt egy zátonyon. A legénységből 134-en vesztették életüket, a túlélők kalandos úton, Szaúd-Arábiát, Szíriát és Törökországot érintve keveredtek haza Németországba. Kalandjaik plasztikus lerását Hellmuth von Mücke első tiszt könyvében olvashatjuk el. A hajó roncsai egészen az 50-es évekig a zátonyon maradtak, akkor is csak részlegesen bontották le.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stvérhajója : Dresd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0T14:52:39Z</dcterms:created>
  <dc:creator>ws05</dc:creator>
  <dc:description/>
  <dc:language>en-US</dc:language>
  <cp:lastModifiedBy>ws05</cp:lastModifiedBy>
  <dcterms:modified xsi:type="dcterms:W3CDTF">2009-12-10T16:32:46Z</dcterms:modified>
  <cp:revision>2</cp:revision>
  <dc:subject/>
  <dc:title>SMS ÁRPÁD (OMM) </dc:title>
</cp:coreProperties>
</file>